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D15A-E0F9-4594-AC46-2633B5B6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0D43-04E4-448B-B375-594C8FD7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9182-277D-4E9B-8082-80F77166B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C3A1-0CA1-45E4-827E-7886A0BBA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4906-7615-4940-91A4-B28517BE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97B6-AFBA-4FCF-AD68-1C1D73D4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49F0-74A7-43C1-9165-9D603C42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C424-4878-4E45-865B-980A346D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E6CC-FD38-4747-B417-7BF468C5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37F8-D65F-42C5-9E83-39B92850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4686-D94A-41A5-B1C9-B2BB2816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BB69-8D1D-43B7-884F-610F93A5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3CC2-FBB3-4835-A029-6E588883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1A44-3609-466F-A339-E03C3593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441A-98DA-4C87-AEB0-DC85C4F2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EE78-7C47-41C4-B5AA-457347AA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066D-DF71-4D85-B513-FE40A05AE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5249-EBD0-41AF-B994-3A6C4584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3F5D-CB25-4A06-BFA5-28EB8A70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8C10-5ED8-41D9-B576-88034A5D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34A4-DEB1-42D2-992C-17C3CCA2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4216-74FD-4CD0-96BD-A4663E1F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1C84-5E1B-446F-A776-3E68EF4B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C815-CDB6-45DF-9A7C-23E4CA01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6343-085E-434C-BFFB-A979EE36380A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806B-E164-4DF9-9DFE-5857ABD56DF3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00000" y="2637000"/>
            <a:ext cx="75614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8f8f8"/>
                </a:solidFill>
                <a:uFillTx/>
                <a:latin typeface="Times New Roman"/>
              </a:rPr>
              <a:t>Poligoane</a:t>
            </a:r>
            <a:r>
              <a:rPr b="1" lang="ro-RO" sz="5400" spc="-1" strike="noStrike">
                <a:solidFill>
                  <a:srgbClr val="f8f8f8"/>
                </a:solidFill>
                <a:latin typeface="Times New Roman"/>
              </a:rPr>
              <a:t>: </a:t>
            </a:r>
            <a:r>
              <a:rPr b="0" lang="ro-RO" sz="5400" spc="-1" strike="noStrike" u="sng">
                <a:solidFill>
                  <a:srgbClr val="00ffff"/>
                </a:solidFill>
                <a:uFillTx/>
                <a:latin typeface="Times New Roman"/>
                <a:hlinkClick r:id="rId1" action="ppaction://hlinksldjump"/>
              </a:rPr>
              <a:t>triunghiulare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1" lang="ro-RO" sz="54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1" lang="ro-RO" sz="54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1" lang="ro-RO" sz="5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ro-RO" sz="5400" spc="-1" strike="noStrike" u="sng">
                <a:solidFill>
                  <a:srgbClr val="00ffff"/>
                </a:solidFill>
                <a:uFillTx/>
                <a:latin typeface="Times New Roman"/>
                <a:hlinkClick r:id="rId2" action="ppaction://hlinksldjump"/>
              </a:rPr>
              <a:t>patrulatere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105264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8f8f8"/>
                </a:solidFill>
                <a:uFillTx/>
                <a:latin typeface="Times New Roman"/>
              </a:rPr>
              <a:t>Geometrie</a:t>
            </a:r>
            <a:r>
              <a:rPr b="1" lang="ro-RO" sz="4000" spc="-1" strike="noStrike" u="sng">
                <a:solidFill>
                  <a:srgbClr val="f8f8f8"/>
                </a:solidFill>
                <a:uFillTx/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f8f8f8"/>
                </a:solidFill>
                <a:uFillTx/>
                <a:latin typeface="Times New Roman"/>
              </a:rPr>
              <a:t>clasa a-VII-a 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93440" y="6707160"/>
            <a:ext cx="358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3a5c4"/>
                </a:solidFill>
                <a:latin typeface="Tahoma"/>
              </a:rPr>
              <a:t>TRAPEZU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5122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bfe9"/>
                </a:solidFill>
                <a:latin typeface="Tahoma"/>
              </a:rPr>
              <a:t>Trapezul este patrulaterul cu doua laturi paralele si celelalte doua neparalele;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lasificare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Tahoma"/>
              </a:rPr>
              <a:t>Trapez oarecare:  </a:t>
            </a: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are laturile neparalele necongruente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Tahoma"/>
              </a:rPr>
              <a:t>Trapez isoscel: </a:t>
            </a: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are laturile neparalele congruente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Tahoma"/>
              </a:rPr>
              <a:t>Trapez dreptunghic: </a:t>
            </a: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are un unghi drept;</a:t>
            </a:r>
            <a:r>
              <a:rPr b="0" lang="en-US" sz="2800" spc="-1" strike="noStrike">
                <a:solidFill>
                  <a:srgbClr val="808080"/>
                </a:solidFill>
                <a:latin typeface="Tahoma"/>
              </a:rPr>
              <a:t>                               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3" name=""/>
          <p:cNvSpPr/>
          <p:nvPr/>
        </p:nvSpPr>
        <p:spPr>
          <a:xfrm>
            <a:off x="1600200" y="4800600"/>
            <a:ext cx="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828800" y="5638680"/>
            <a:ext cx="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91320" y="5791320"/>
            <a:ext cx="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791320" y="5791320"/>
            <a:ext cx="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343400" y="4800600"/>
            <a:ext cx="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362320" y="4572000"/>
            <a:ext cx="60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153280" y="6019920"/>
            <a:ext cx="533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94040" y="403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705720" y="5486400"/>
            <a:ext cx="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62320" y="3200400"/>
            <a:ext cx="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638680" y="5334120"/>
            <a:ext cx="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4000" y="422100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BCD - oarecar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03640" y="4292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NPQ- isosc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372360" y="414972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FGH-</a:t>
            </a:r>
            <a:r>
              <a:rPr b="0" lang="ro-RO" sz="3200" spc="-1" strike="noStrike">
                <a:solidFill>
                  <a:srgbClr val="00ffff"/>
                </a:solidFill>
                <a:latin typeface="Times New Roman"/>
              </a:rPr>
              <a:t>dreptunghic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95280" y="4724280"/>
            <a:ext cx="2689200" cy="1812960"/>
            <a:chOff x="395280" y="4724280"/>
            <a:chExt cx="2689200" cy="1812960"/>
          </a:xfrm>
        </p:grpSpPr>
        <p:grpSp>
          <p:nvGrpSpPr>
            <p:cNvPr id="338" name=""/>
            <p:cNvGrpSpPr/>
            <p:nvPr/>
          </p:nvGrpSpPr>
          <p:grpSpPr>
            <a:xfrm>
              <a:off x="395280" y="4724280"/>
              <a:ext cx="2689200" cy="1812960"/>
              <a:chOff x="395280" y="4724280"/>
              <a:chExt cx="2689200" cy="1812960"/>
            </a:xfrm>
          </p:grpSpPr>
          <p:sp>
            <p:nvSpPr>
              <p:cNvPr id="339" name=""/>
              <p:cNvSpPr/>
              <p:nvPr/>
            </p:nvSpPr>
            <p:spPr>
              <a:xfrm>
                <a:off x="395280" y="6168960"/>
                <a:ext cx="43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Arial Black"/>
                  </a:rPr>
                  <a:t>A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627280" y="616896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Arial Black"/>
                  </a:rPr>
                  <a:t>B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35040" y="4724280"/>
                <a:ext cx="473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Arial Black"/>
                  </a:rPr>
                  <a:t>D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892160" y="4724280"/>
                <a:ext cx="43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Arial Black"/>
                  </a:rPr>
                  <a:t>C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26920" y="6097320"/>
                <a:ext cx="2016360" cy="0"/>
              </a:xfrm>
              <a:prstGeom prst="line">
                <a:avLst/>
              </a:prstGeom>
              <a:ln w="5724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826920" y="5017320"/>
                <a:ext cx="144720" cy="1079640"/>
              </a:xfrm>
              <a:prstGeom prst="line">
                <a:avLst/>
              </a:prstGeom>
              <a:ln w="5724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971640" y="5017680"/>
                <a:ext cx="1008000" cy="0"/>
              </a:xfrm>
              <a:prstGeom prst="line">
                <a:avLst/>
              </a:prstGeom>
              <a:ln w="5724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1979280" y="5017320"/>
                <a:ext cx="863640" cy="1079640"/>
              </a:xfrm>
              <a:prstGeom prst="line">
                <a:avLst/>
              </a:prstGeom>
              <a:ln w="5724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1979640" y="5013360"/>
              <a:ext cx="0" cy="1079640"/>
            </a:xfrm>
            <a:prstGeom prst="line">
              <a:avLst/>
            </a:prstGeom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348000" y="4941720"/>
            <a:ext cx="2549520" cy="1305000"/>
            <a:chOff x="3348000" y="4941720"/>
            <a:chExt cx="2549520" cy="1305000"/>
          </a:xfrm>
        </p:grpSpPr>
        <p:grpSp>
          <p:nvGrpSpPr>
            <p:cNvPr id="349" name=""/>
            <p:cNvGrpSpPr/>
            <p:nvPr/>
          </p:nvGrpSpPr>
          <p:grpSpPr>
            <a:xfrm>
              <a:off x="3348000" y="4941720"/>
              <a:ext cx="2549520" cy="1305000"/>
              <a:chOff x="3348000" y="4941720"/>
              <a:chExt cx="2549520" cy="1305000"/>
            </a:xfrm>
          </p:grpSpPr>
          <p:sp>
            <p:nvSpPr>
              <p:cNvPr id="350" name=""/>
              <p:cNvSpPr/>
              <p:nvPr/>
            </p:nvSpPr>
            <p:spPr>
              <a:xfrm>
                <a:off x="5076720" y="494172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Arial Black"/>
                  </a:rPr>
                  <a:t> </a:t>
                </a:r>
                <a:r>
                  <a:rPr b="0" lang="en-US" sz="1800" spc="-1" strike="noStrike">
                    <a:solidFill>
                      <a:srgbClr val="f8f8f8"/>
                    </a:solidFill>
                    <a:latin typeface="Arial Black"/>
                  </a:rPr>
                  <a:t>N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348000" y="5878440"/>
                <a:ext cx="22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Arial Black"/>
                  </a:rPr>
                  <a:t>Q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364000" y="587844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Arial Black"/>
                  </a:rPr>
                  <a:t>M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708360" y="4941720"/>
                <a:ext cx="43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Arial Black"/>
                  </a:rPr>
                  <a:t>P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0800000">
                <a:off x="3563640" y="5085720"/>
                <a:ext cx="1944360" cy="792360"/>
              </a:xfrm>
              <a:custGeom>
                <a:avLst/>
                <a:gdLst>
                  <a:gd name="textAreaLeft" fmla="*/ 427320 w 1944360"/>
                  <a:gd name="textAreaRight" fmla="*/ 1517040 w 1944360"/>
                  <a:gd name="textAreaTop" fmla="*/ 174240 h 792360"/>
                  <a:gd name="textAreaBottom" fmla="*/ 618120 h 79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5003640" y="5084640"/>
              <a:ext cx="0" cy="792360"/>
            </a:xfrm>
            <a:prstGeom prst="line">
              <a:avLst/>
            </a:prstGeom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6477120" y="5013360"/>
            <a:ext cx="2666880" cy="1511280"/>
            <a:chOff x="6477120" y="5013360"/>
            <a:chExt cx="2666880" cy="1511280"/>
          </a:xfrm>
        </p:grpSpPr>
        <p:grpSp>
          <p:nvGrpSpPr>
            <p:cNvPr id="357" name=""/>
            <p:cNvGrpSpPr/>
            <p:nvPr/>
          </p:nvGrpSpPr>
          <p:grpSpPr>
            <a:xfrm>
              <a:off x="6477120" y="5013360"/>
              <a:ext cx="2666880" cy="1511280"/>
              <a:chOff x="6477120" y="5013360"/>
              <a:chExt cx="2666880" cy="1511280"/>
            </a:xfrm>
          </p:grpSpPr>
          <p:sp>
            <p:nvSpPr>
              <p:cNvPr id="358" name=""/>
              <p:cNvSpPr/>
              <p:nvPr/>
            </p:nvSpPr>
            <p:spPr>
              <a:xfrm>
                <a:off x="6782040" y="6156360"/>
                <a:ext cx="1752480" cy="0"/>
              </a:xfrm>
              <a:prstGeom prst="line">
                <a:avLst/>
              </a:prstGeom>
              <a:ln w="5724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6782040" y="5241960"/>
                <a:ext cx="0" cy="914400"/>
              </a:xfrm>
              <a:prstGeom prst="line">
                <a:avLst/>
              </a:prstGeom>
              <a:ln w="5724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82040" y="5241960"/>
                <a:ext cx="990360" cy="0"/>
              </a:xfrm>
              <a:prstGeom prst="line">
                <a:avLst/>
              </a:prstGeom>
              <a:ln w="5724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772400" y="5241960"/>
                <a:ext cx="762120" cy="914400"/>
              </a:xfrm>
              <a:prstGeom prst="line">
                <a:avLst/>
              </a:prstGeom>
              <a:ln w="5724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696440" y="5013360"/>
                <a:ext cx="22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Arial Black"/>
                  </a:rPr>
                  <a:t>G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477120" y="501336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Arial Black"/>
                  </a:rPr>
                  <a:t>H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480520" y="6080040"/>
                <a:ext cx="663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Arial Black"/>
                  </a:rPr>
                  <a:t>F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629400" y="6156360"/>
                <a:ext cx="22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Arial Black"/>
                  </a:rPr>
                  <a:t>E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782040" y="5927760"/>
                <a:ext cx="304560" cy="0"/>
              </a:xfrm>
              <a:prstGeom prst="line">
                <a:avLst/>
              </a:prstGeom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086600" y="5927760"/>
                <a:ext cx="0" cy="228600"/>
              </a:xfrm>
              <a:prstGeom prst="line">
                <a:avLst/>
              </a:prstGeom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7740720" y="5229360"/>
              <a:ext cx="0" cy="936360"/>
            </a:xfrm>
            <a:prstGeom prst="line">
              <a:avLst/>
            </a:prstGeom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ransition spd="slow" advTm="0">
    <p:wheel spokes="1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99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1900"/>
                            </p:stCondLst>
                            <p:childTnLst>
                              <p:par>
                                <p:cTn id="24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4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390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9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7900"/>
                            </p:stCondLst>
                            <p:childTnLst>
                              <p:par>
                                <p:cTn id="2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9900"/>
                            </p:stCondLst>
                            <p:childTnLst>
                              <p:par>
                                <p:cTn id="2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1900"/>
                            </p:stCondLst>
                            <p:childTnLst>
                              <p:par>
                                <p:cTn id="2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3900"/>
                            </p:stCondLst>
                            <p:childTnLst>
                              <p:par>
                                <p:cTn id="2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9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105264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8f8f8"/>
                </a:solidFill>
                <a:latin typeface="Times New Roman"/>
              </a:rPr>
              <a:t>TRIUNGHIUL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3640" y="24922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8f8f8"/>
                </a:solidFill>
                <a:latin typeface="Times New Roman"/>
              </a:rPr>
              <a:t>Dreptunghic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780000" y="3645000"/>
            <a:ext cx="1655640" cy="2160360"/>
            <a:chOff x="3780000" y="3645000"/>
            <a:chExt cx="1655640" cy="2160360"/>
          </a:xfrm>
        </p:grpSpPr>
        <p:sp>
          <p:nvSpPr>
            <p:cNvPr id="114" name=""/>
            <p:cNvSpPr/>
            <p:nvPr/>
          </p:nvSpPr>
          <p:spPr>
            <a:xfrm>
              <a:off x="3780000" y="3645000"/>
              <a:ext cx="1655640" cy="2160360"/>
            </a:xfrm>
            <a:prstGeom prst="rtTriangle">
              <a:avLst/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780000" y="5013360"/>
              <a:ext cx="1079280" cy="792000"/>
            </a:xfrm>
            <a:prstGeom prst="line">
              <a:avLst/>
            </a:prstGeom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0920" y="242100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8f8f8"/>
                </a:solidFill>
                <a:latin typeface="Times New Roman"/>
              </a:rPr>
              <a:t>Ascutitunghic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56360" y="2492280"/>
            <a:ext cx="29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8f8f8"/>
                </a:solidFill>
                <a:latin typeface="Times New Roman"/>
              </a:rPr>
              <a:t>Obtuzunghic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84360" y="3789360"/>
            <a:ext cx="1871640" cy="2088720"/>
            <a:chOff x="684360" y="3789360"/>
            <a:chExt cx="1871640" cy="2088720"/>
          </a:xfrm>
        </p:grpSpPr>
        <p:sp>
          <p:nvSpPr>
            <p:cNvPr id="119" name=""/>
            <p:cNvSpPr/>
            <p:nvPr/>
          </p:nvSpPr>
          <p:spPr>
            <a:xfrm>
              <a:off x="684360" y="3789360"/>
              <a:ext cx="1871640" cy="2087280"/>
            </a:xfrm>
            <a:prstGeom prst="triangle">
              <a:avLst>
                <a:gd name="adj" fmla="val 33588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32000" y="3862080"/>
              <a:ext cx="0" cy="2016000"/>
            </a:xfrm>
            <a:prstGeom prst="line">
              <a:avLst/>
            </a:prstGeom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684360" y="4941360"/>
              <a:ext cx="1295280" cy="936360"/>
            </a:xfrm>
            <a:prstGeom prst="line">
              <a:avLst/>
            </a:prstGeom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900000" y="5228640"/>
              <a:ext cx="1655640" cy="649080"/>
            </a:xfrm>
            <a:prstGeom prst="line">
              <a:avLst/>
            </a:prstGeom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227640" y="4149720"/>
            <a:ext cx="2376360" cy="1942920"/>
            <a:chOff x="6227640" y="4149720"/>
            <a:chExt cx="2376360" cy="1942920"/>
          </a:xfrm>
        </p:grpSpPr>
        <p:grpSp>
          <p:nvGrpSpPr>
            <p:cNvPr id="124" name=""/>
            <p:cNvGrpSpPr/>
            <p:nvPr/>
          </p:nvGrpSpPr>
          <p:grpSpPr>
            <a:xfrm>
              <a:off x="6227640" y="4149720"/>
              <a:ext cx="2305080" cy="1224000"/>
              <a:chOff x="6227640" y="4149720"/>
              <a:chExt cx="2305080" cy="1224000"/>
            </a:xfrm>
          </p:grpSpPr>
          <p:sp>
            <p:nvSpPr>
              <p:cNvPr id="125" name=""/>
              <p:cNvSpPr/>
              <p:nvPr/>
            </p:nvSpPr>
            <p:spPr>
              <a:xfrm>
                <a:off x="6227640" y="5373720"/>
                <a:ext cx="1224000" cy="0"/>
              </a:xfrm>
              <a:prstGeom prst="line">
                <a:avLst/>
              </a:prstGeom>
              <a:ln w="381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7451640" y="4149720"/>
                <a:ext cx="1081080" cy="1224000"/>
              </a:xfrm>
              <a:prstGeom prst="line">
                <a:avLst/>
              </a:prstGeom>
              <a:ln w="381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6227640" y="4221000"/>
                <a:ext cx="2232000" cy="1152360"/>
              </a:xfrm>
              <a:prstGeom prst="line">
                <a:avLst/>
              </a:prstGeom>
              <a:ln w="381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 flipH="1" flipV="1">
              <a:off x="7163640" y="4868280"/>
              <a:ext cx="287640" cy="50508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530920" y="4149720"/>
              <a:ext cx="0" cy="129528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22920" y="5373720"/>
              <a:ext cx="1081080" cy="0"/>
            </a:xfrm>
            <a:prstGeom prst="line">
              <a:avLst/>
            </a:prstGeom>
            <a:ln w="57240">
              <a:solidFill>
                <a:srgbClr val="f8f8f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6514920" y="5300640"/>
              <a:ext cx="1008000" cy="792000"/>
            </a:xfrm>
            <a:prstGeom prst="line">
              <a:avLst/>
            </a:prstGeom>
            <a:ln w="57240">
              <a:solidFill>
                <a:srgbClr val="f8f8f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27640" y="5373720"/>
              <a:ext cx="576000" cy="50328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1280" y="249228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8f8f8"/>
                </a:solidFill>
                <a:latin typeface="Times New Roman"/>
              </a:rPr>
              <a:t>Scalen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96000" y="256536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8f8f8"/>
                </a:solidFill>
                <a:latin typeface="Times New Roman"/>
              </a:rPr>
              <a:t>Echilateral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539640" y="6021360"/>
            <a:ext cx="576360" cy="35892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673" h="21600">
                <a:moveTo>
                  <a:pt x="0" y="0"/>
                </a:moveTo>
                <a:lnTo>
                  <a:pt x="34673" y="0"/>
                </a:lnTo>
                <a:lnTo>
                  <a:pt x="34673" y="21600"/>
                </a:lnTo>
                <a:lnTo>
                  <a:pt x="0" y="21600"/>
                </a:lnTo>
                <a:close/>
              </a:path>
              <a:path fill="lightenLess" w="34673" h="21600">
                <a:moveTo>
                  <a:pt x="0" y="0"/>
                </a:moveTo>
                <a:lnTo>
                  <a:pt x="34673" y="0"/>
                </a:lnTo>
                <a:lnTo>
                  <a:pt x="33273" y="1400"/>
                </a:lnTo>
                <a:lnTo>
                  <a:pt x="1400" y="1400"/>
                </a:lnTo>
                <a:close/>
              </a:path>
              <a:path fill="darken" w="34673" h="21600">
                <a:moveTo>
                  <a:pt x="34673" y="0"/>
                </a:moveTo>
                <a:lnTo>
                  <a:pt x="34673" y="21600"/>
                </a:lnTo>
                <a:lnTo>
                  <a:pt x="33273" y="20200"/>
                </a:lnTo>
                <a:lnTo>
                  <a:pt x="33273" y="1400"/>
                </a:lnTo>
                <a:close/>
              </a:path>
              <a:path fill="darkenLess" w="34673" h="21600">
                <a:moveTo>
                  <a:pt x="3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73" y="20200"/>
                </a:lnTo>
                <a:close/>
              </a:path>
              <a:path fill="lighten" w="3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73" h="21600">
                <a:moveTo>
                  <a:pt x="13837" y="10800"/>
                </a:moveTo>
                <a:lnTo>
                  <a:pt x="24343" y="3794"/>
                </a:lnTo>
                <a:lnTo>
                  <a:pt x="24343" y="17806"/>
                </a:lnTo>
                <a:close/>
              </a:path>
              <a:path fill="darken" w="34673" h="21600">
                <a:moveTo>
                  <a:pt x="10330" y="3794"/>
                </a:moveTo>
                <a:lnTo>
                  <a:pt x="11992" y="3794"/>
                </a:lnTo>
                <a:lnTo>
                  <a:pt x="11992" y="17806"/>
                </a:lnTo>
                <a:lnTo>
                  <a:pt x="10330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69228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8f8f8"/>
                </a:solidFill>
                <a:latin typeface="Times New Roman"/>
              </a:rPr>
              <a:t>TRIUNGHIUL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2565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8f8f8"/>
                </a:solidFill>
                <a:latin typeface="Times New Roman"/>
              </a:rPr>
              <a:t>Isoscel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1280" y="3573360"/>
            <a:ext cx="2232000" cy="2089080"/>
            <a:chOff x="611280" y="3573360"/>
            <a:chExt cx="2232000" cy="2089080"/>
          </a:xfrm>
        </p:grpSpPr>
        <p:sp>
          <p:nvSpPr>
            <p:cNvPr id="139" name=""/>
            <p:cNvSpPr/>
            <p:nvPr/>
          </p:nvSpPr>
          <p:spPr>
            <a:xfrm>
              <a:off x="611280" y="3573360"/>
              <a:ext cx="2232000" cy="2089080"/>
            </a:xfrm>
            <a:prstGeom prst="triangle">
              <a:avLst>
                <a:gd name="adj" fmla="val 71764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95640" y="3573360"/>
              <a:ext cx="0" cy="2087640"/>
            </a:xfrm>
            <a:prstGeom prst="line">
              <a:avLst/>
            </a:prstGeom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11280" y="4869000"/>
              <a:ext cx="2016000" cy="792000"/>
            </a:xfrm>
            <a:prstGeom prst="line">
              <a:avLst/>
            </a:prstGeom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1547280" y="4508280"/>
              <a:ext cx="1295640" cy="1152360"/>
            </a:xfrm>
            <a:prstGeom prst="line">
              <a:avLst/>
            </a:prstGeom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708360" y="3933720"/>
            <a:ext cx="1440000" cy="1871640"/>
            <a:chOff x="3708360" y="3933720"/>
            <a:chExt cx="1440000" cy="1871640"/>
          </a:xfrm>
        </p:grpSpPr>
        <p:sp>
          <p:nvSpPr>
            <p:cNvPr id="144" name=""/>
            <p:cNvSpPr/>
            <p:nvPr/>
          </p:nvSpPr>
          <p:spPr>
            <a:xfrm>
              <a:off x="3708360" y="3933720"/>
              <a:ext cx="1440000" cy="1871640"/>
            </a:xfrm>
            <a:prstGeom prst="triangle">
              <a:avLst>
                <a:gd name="adj" fmla="val 50000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27640" y="3933720"/>
              <a:ext cx="0" cy="1871640"/>
            </a:xfrm>
            <a:prstGeom prst="line">
              <a:avLst/>
            </a:prstGeom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708360" y="5300640"/>
              <a:ext cx="1224000" cy="504720"/>
            </a:xfrm>
            <a:prstGeom prst="line">
              <a:avLst/>
            </a:prstGeom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3924360" y="5300640"/>
              <a:ext cx="1224000" cy="504720"/>
            </a:xfrm>
            <a:prstGeom prst="line">
              <a:avLst/>
            </a:prstGeom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300720" y="4005360"/>
            <a:ext cx="2303640" cy="1728720"/>
            <a:chOff x="6300720" y="4005360"/>
            <a:chExt cx="2303640" cy="1728720"/>
          </a:xfrm>
        </p:grpSpPr>
        <p:sp>
          <p:nvSpPr>
            <p:cNvPr id="149" name=""/>
            <p:cNvSpPr/>
            <p:nvPr/>
          </p:nvSpPr>
          <p:spPr>
            <a:xfrm>
              <a:off x="6300720" y="4005360"/>
              <a:ext cx="2303640" cy="1727280"/>
            </a:xfrm>
            <a:prstGeom prst="triangle">
              <a:avLst>
                <a:gd name="adj" fmla="val 50000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51640" y="4005360"/>
              <a:ext cx="0" cy="1728720"/>
            </a:xfrm>
            <a:prstGeom prst="line">
              <a:avLst/>
            </a:prstGeom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6877080" y="4868640"/>
              <a:ext cx="1727280" cy="865080"/>
            </a:xfrm>
            <a:prstGeom prst="line">
              <a:avLst/>
            </a:prstGeom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6300720" y="4868640"/>
              <a:ext cx="1727280" cy="865080"/>
            </a:xfrm>
            <a:prstGeom prst="line">
              <a:avLst/>
            </a:prstGeom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8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000"/>
                            </p:stCondLst>
                            <p:childTnLst>
                              <p:par>
                                <p:cTn id="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90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 flipH="1">
            <a:off x="3708360" y="765000"/>
            <a:ext cx="1440000" cy="230364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57600" y="3048120"/>
            <a:ext cx="2057400" cy="106668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787640" y="765000"/>
            <a:ext cx="360360" cy="201636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781360"/>
            <a:ext cx="863640" cy="129528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356000" y="4581360"/>
            <a:ext cx="2952720" cy="14292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56000" y="4724280"/>
            <a:ext cx="1309680" cy="130176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08720" y="4581360"/>
            <a:ext cx="73080" cy="86364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651640" y="5445000"/>
            <a:ext cx="1728720" cy="62244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11280" y="170028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236232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59640" y="191628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066680" y="3789360"/>
            <a:ext cx="2784600" cy="2087640"/>
            <a:chOff x="1066680" y="3789360"/>
            <a:chExt cx="2784600" cy="2087640"/>
          </a:xfrm>
        </p:grpSpPr>
        <p:sp>
          <p:nvSpPr>
            <p:cNvPr id="165" name=""/>
            <p:cNvSpPr/>
            <p:nvPr/>
          </p:nvSpPr>
          <p:spPr>
            <a:xfrm flipH="1">
              <a:off x="1115640" y="3789360"/>
              <a:ext cx="1584360" cy="1368360"/>
            </a:xfrm>
            <a:prstGeom prst="line">
              <a:avLst/>
            </a:prstGeom>
            <a:ln w="381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00360" y="3789360"/>
              <a:ext cx="1150920" cy="2087640"/>
            </a:xfrm>
            <a:prstGeom prst="line">
              <a:avLst/>
            </a:prstGeom>
            <a:ln w="381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066680" y="4724280"/>
              <a:ext cx="1447920" cy="457200"/>
            </a:xfrm>
            <a:prstGeom prst="line">
              <a:avLst/>
            </a:prstGeom>
            <a:ln w="381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84360" y="4724280"/>
              <a:ext cx="1366920" cy="1152720"/>
            </a:xfrm>
            <a:prstGeom prst="line">
              <a:avLst/>
            </a:prstGeom>
            <a:ln w="381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38280" y="411480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4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5715000" y="487692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33336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Care patrulatere sunt convexe </a:t>
            </a:r>
            <a:r>
              <a:rPr b="0" lang="ro-RO" sz="2800" spc="-1" strike="noStrike">
                <a:solidFill>
                  <a:srgbClr val="f8f8f8"/>
                </a:solidFill>
                <a:latin typeface="Verdana"/>
              </a:rPr>
              <a:t>ş</a:t>
            </a: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i care concave?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7640" y="1484280"/>
            <a:ext cx="2016360" cy="1582920"/>
          </a:xfrm>
          <a:custGeom>
            <a:avLst/>
            <a:gdLst>
              <a:gd name="textAreaLeft" fmla="*/ 443160 w 2016360"/>
              <a:gd name="textAreaRight" fmla="*/ 1573200 w 2016360"/>
              <a:gd name="textAreaTop" fmla="*/ 348120 h 1582920"/>
              <a:gd name="textAreaBottom" fmla="*/ 1234800 h 158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27640" y="907920"/>
            <a:ext cx="1873440" cy="2592360"/>
          </a:xfrm>
          <a:prstGeom prst="parallelogram">
            <a:avLst>
              <a:gd name="adj" fmla="val 25000"/>
            </a:avLst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826920" y="981000"/>
            <a:ext cx="3470400" cy="2394000"/>
            <a:chOff x="826920" y="981000"/>
            <a:chExt cx="3470400" cy="2394000"/>
          </a:xfrm>
        </p:grpSpPr>
        <p:grpSp>
          <p:nvGrpSpPr>
            <p:cNvPr id="175" name=""/>
            <p:cNvGrpSpPr/>
            <p:nvPr/>
          </p:nvGrpSpPr>
          <p:grpSpPr>
            <a:xfrm>
              <a:off x="826920" y="981000"/>
              <a:ext cx="3470400" cy="2394000"/>
              <a:chOff x="826920" y="981000"/>
              <a:chExt cx="3470400" cy="2394000"/>
            </a:xfrm>
          </p:grpSpPr>
          <p:sp>
            <p:nvSpPr>
              <p:cNvPr id="176" name=""/>
              <p:cNvSpPr/>
              <p:nvPr/>
            </p:nvSpPr>
            <p:spPr>
              <a:xfrm>
                <a:off x="996840" y="1635120"/>
                <a:ext cx="2895840" cy="1371600"/>
              </a:xfrm>
              <a:prstGeom prst="parallelogram">
                <a:avLst>
                  <a:gd name="adj" fmla="val 52782"/>
                </a:avLst>
              </a:prstGeom>
              <a:solidFill>
                <a:srgbClr val="6699ff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26920" y="285444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8f8f8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265560" y="285444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8f8f8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40120" y="13413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8f8f8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30280" y="981000"/>
                <a:ext cx="496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8f8f8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f8f8f8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706400" y="1635120"/>
                <a:ext cx="144792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 flipV="1">
              <a:off x="971640" y="1628640"/>
              <a:ext cx="28954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716360" y="1125360"/>
            <a:ext cx="4142880" cy="2212200"/>
            <a:chOff x="4716360" y="1125360"/>
            <a:chExt cx="4142880" cy="2212200"/>
          </a:xfrm>
        </p:grpSpPr>
        <p:grpSp>
          <p:nvGrpSpPr>
            <p:cNvPr id="184" name=""/>
            <p:cNvGrpSpPr/>
            <p:nvPr/>
          </p:nvGrpSpPr>
          <p:grpSpPr>
            <a:xfrm>
              <a:off x="4716360" y="1125360"/>
              <a:ext cx="4142880" cy="2212200"/>
              <a:chOff x="4716360" y="1125360"/>
              <a:chExt cx="4142880" cy="2212200"/>
            </a:xfrm>
          </p:grpSpPr>
          <p:sp>
            <p:nvSpPr>
              <p:cNvPr id="185" name=""/>
              <p:cNvSpPr/>
              <p:nvPr/>
            </p:nvSpPr>
            <p:spPr>
              <a:xfrm>
                <a:off x="5049360" y="1506240"/>
                <a:ext cx="2742840" cy="137160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973400" y="2801880"/>
                <a:ext cx="129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8f8f8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563960" y="287784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8f8f8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640280" y="1125360"/>
                <a:ext cx="12189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8f8f8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8f8f8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716360" y="128880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8f8f8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049360" y="1506240"/>
                <a:ext cx="274284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 flipV="1">
              <a:off x="5008320" y="1538280"/>
              <a:ext cx="28195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676520" y="32767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4495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3733920"/>
            <a:ext cx="152388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84360" y="3284640"/>
            <a:ext cx="1811160" cy="3174120"/>
            <a:chOff x="684360" y="3284640"/>
            <a:chExt cx="1811160" cy="3174120"/>
          </a:xfrm>
        </p:grpSpPr>
        <p:sp>
          <p:nvSpPr>
            <p:cNvPr id="196" name=""/>
            <p:cNvSpPr/>
            <p:nvPr/>
          </p:nvSpPr>
          <p:spPr>
            <a:xfrm>
              <a:off x="1065240" y="3560760"/>
              <a:ext cx="1066680" cy="2590920"/>
            </a:xfrm>
            <a:prstGeom prst="diamond">
              <a:avLst/>
            </a:prstGeom>
            <a:solidFill>
              <a:srgbClr val="6699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41520" y="599904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90600" y="45813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69880" y="3284640"/>
              <a:ext cx="89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4360" y="4780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539640" y="620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Patrulaterele particulare care au fost studiate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843280" y="3716280"/>
            <a:ext cx="2539440" cy="2332800"/>
            <a:chOff x="2843280" y="3716280"/>
            <a:chExt cx="2539440" cy="2332800"/>
          </a:xfrm>
        </p:grpSpPr>
        <p:sp>
          <p:nvSpPr>
            <p:cNvPr id="203" name=""/>
            <p:cNvSpPr/>
            <p:nvPr/>
          </p:nvSpPr>
          <p:spPr>
            <a:xfrm>
              <a:off x="3224160" y="4147920"/>
              <a:ext cx="1523520" cy="144792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43280" y="5537160"/>
              <a:ext cx="68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19440" y="558936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48040" y="3789360"/>
              <a:ext cx="63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06720" y="3716280"/>
              <a:ext cx="4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3224160" y="4147920"/>
              <a:ext cx="1510920" cy="14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372360" y="3500280"/>
            <a:ext cx="223200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796000" y="3499920"/>
            <a:ext cx="216072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5880" y="42670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48000" y="4292640"/>
            <a:ext cx="144000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518080" y="3645000"/>
            <a:ext cx="3625920" cy="2499480"/>
            <a:chOff x="5518080" y="3645000"/>
            <a:chExt cx="3625920" cy="2499480"/>
          </a:xfrm>
        </p:grpSpPr>
        <p:sp>
          <p:nvSpPr>
            <p:cNvPr id="214" name=""/>
            <p:cNvSpPr/>
            <p:nvPr/>
          </p:nvSpPr>
          <p:spPr>
            <a:xfrm>
              <a:off x="8381880" y="56847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229600" y="45417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0800000">
              <a:off x="5823000" y="4008600"/>
              <a:ext cx="2743200" cy="1752480"/>
            </a:xfrm>
            <a:prstGeom prst="flowChartManualOperation">
              <a:avLst/>
            </a:prstGeom>
            <a:solidFill>
              <a:srgbClr val="6699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18080" y="56847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56720" y="3787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51600" y="364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683320" y="4653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04040" y="4003560"/>
              <a:ext cx="223200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5827680" y="4003200"/>
              <a:ext cx="2160720" cy="17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27920" y="477036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900000" y="3212640"/>
            <a:ext cx="1368360" cy="1325880"/>
            <a:chOff x="900000" y="3212640"/>
            <a:chExt cx="1368360" cy="1325880"/>
          </a:xfrm>
        </p:grpSpPr>
        <p:sp>
          <p:nvSpPr>
            <p:cNvPr id="225" name=""/>
            <p:cNvSpPr/>
            <p:nvPr/>
          </p:nvSpPr>
          <p:spPr>
            <a:xfrm flipV="1">
              <a:off x="900000" y="3212640"/>
              <a:ext cx="0" cy="79236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00000" y="4005360"/>
              <a:ext cx="685800" cy="53316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00000" y="3213000"/>
              <a:ext cx="1368360" cy="7164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1618920" y="3284640"/>
              <a:ext cx="649080" cy="122868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 flipV="1">
            <a:off x="1403280" y="2565000"/>
            <a:ext cx="955800" cy="64764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09680" y="1773360"/>
            <a:ext cx="2146320" cy="1350720"/>
          </a:xfrm>
          <a:prstGeom prst="parallelogram">
            <a:avLst>
              <a:gd name="adj" fmla="val 39725"/>
            </a:avLst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067280" y="2420640"/>
            <a:ext cx="657000" cy="37764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95640" y="2852640"/>
            <a:ext cx="1152720" cy="100800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788000" y="1484280"/>
            <a:ext cx="1904760" cy="114300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76720" y="2924280"/>
            <a:ext cx="1371600" cy="2590560"/>
          </a:xfrm>
          <a:prstGeom prst="diamond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32720" y="2133720"/>
            <a:ext cx="934920" cy="79056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6443640" y="3715920"/>
            <a:ext cx="606600" cy="28908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93080" y="2924280"/>
            <a:ext cx="1441440" cy="149544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8000" y="4647960"/>
            <a:ext cx="1292400" cy="101268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87280" y="4221000"/>
            <a:ext cx="71640" cy="107964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0753800">
            <a:off x="3045960" y="4038120"/>
            <a:ext cx="2057400" cy="1067040"/>
          </a:xfrm>
          <a:custGeom>
            <a:avLst/>
            <a:gdLst>
              <a:gd name="textAreaLeft" fmla="*/ 452160 w 2057400"/>
              <a:gd name="textAreaRight" fmla="*/ 1605240 w 2057400"/>
              <a:gd name="textAreaTop" fmla="*/ 234720 h 1067040"/>
              <a:gd name="textAreaBottom" fmla="*/ 832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36600" y="3649680"/>
            <a:ext cx="3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92360" y="20606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 rot="10800000">
            <a:off x="5579640" y="3573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35280" y="42926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24720" y="328464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51280" y="558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14600" y="6858000"/>
            <a:ext cx="198108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276720" y="5373720"/>
            <a:ext cx="2361960" cy="838080"/>
            <a:chOff x="3276720" y="5373720"/>
            <a:chExt cx="2361960" cy="838080"/>
          </a:xfrm>
        </p:grpSpPr>
        <p:sp>
          <p:nvSpPr>
            <p:cNvPr id="249" name=""/>
            <p:cNvSpPr/>
            <p:nvPr/>
          </p:nvSpPr>
          <p:spPr>
            <a:xfrm>
              <a:off x="3276720" y="5373720"/>
              <a:ext cx="1676160" cy="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76720" y="5373720"/>
              <a:ext cx="0" cy="83808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73400" y="5408280"/>
              <a:ext cx="647280" cy="79200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76720" y="6211800"/>
              <a:ext cx="2361960" cy="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68360" y="404640"/>
            <a:ext cx="74883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Verdana"/>
              </a:rPr>
              <a:t>legenda:                A=trapez isoscel   B=trapez dreptunghic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Verdana"/>
              </a:rPr>
              <a:t>C=patr.oarecare     D=dreptunghi      P=patra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Verdana"/>
              </a:rPr>
              <a:t>P=paralelogram      R=romb              T=trapez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51640" y="1916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68360" y="5373720"/>
            <a:ext cx="2158920" cy="792000"/>
            <a:chOff x="468360" y="5373720"/>
            <a:chExt cx="2158920" cy="792000"/>
          </a:xfrm>
        </p:grpSpPr>
        <p:sp>
          <p:nvSpPr>
            <p:cNvPr id="256" name=""/>
            <p:cNvSpPr/>
            <p:nvPr/>
          </p:nvSpPr>
          <p:spPr>
            <a:xfrm>
              <a:off x="826920" y="5373720"/>
              <a:ext cx="720720" cy="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468360" y="5373720"/>
              <a:ext cx="358560" cy="79200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8360" y="6165720"/>
              <a:ext cx="2158920" cy="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547640" y="5373720"/>
              <a:ext cx="1079640" cy="792000"/>
            </a:xfrm>
            <a:prstGeom prst="line">
              <a:avLst/>
            </a:prstGeom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979640" y="5661000"/>
            <a:ext cx="1224000" cy="14436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16000" y="558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9bfe9"/>
                </a:solidFill>
                <a:latin typeface="Tahoma"/>
              </a:rPr>
              <a:t>Paralelogramu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1125360"/>
            <a:ext cx="8142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Tahoma"/>
              </a:rPr>
              <a:t>Def. Este patrulaterul cu laturile opuse paralele doua cate doua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Proprietati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Un patrulater este paralelogram dac</a:t>
            </a:r>
            <a:r>
              <a:rPr b="0" lang="ro-RO" sz="2800" spc="-1" strike="noStrike">
                <a:solidFill>
                  <a:srgbClr val="f8f8f8"/>
                </a:solidFill>
                <a:latin typeface="Tahoma"/>
              </a:rPr>
              <a:t>ă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o-RO" sz="2800" spc="-1" strike="noStrike">
                <a:solidFill>
                  <a:srgbClr val="f8f8f8"/>
                </a:solidFill>
                <a:latin typeface="Tahoma"/>
              </a:rPr>
              <a:t>ş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i numai dac</a:t>
            </a:r>
            <a:r>
              <a:rPr b="0" lang="ro-RO" sz="2800" spc="-1" strike="noStrike">
                <a:solidFill>
                  <a:srgbClr val="f8f8f8"/>
                </a:solidFill>
                <a:latin typeface="Tahoma"/>
              </a:rPr>
              <a:t>ă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Are laturile opuse congruente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Are doua laturi opuse paralele </a:t>
            </a:r>
            <a:r>
              <a:rPr b="0" lang="ro-RO" sz="2800" spc="-1" strike="noStrike">
                <a:solidFill>
                  <a:srgbClr val="ffff66"/>
                </a:solidFill>
                <a:latin typeface="Tahoma"/>
              </a:rPr>
              <a:t>ş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i congruente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Are unghiurile opuse congruente 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Diagonalele se taie </a:t>
            </a:r>
            <a:r>
              <a:rPr b="0" lang="ro-RO" sz="2800" spc="-1" strike="noStrike">
                <a:solidFill>
                  <a:srgbClr val="ffff66"/>
                </a:solidFill>
                <a:latin typeface="Tahoma"/>
              </a:rPr>
              <a:t>î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n par</a:t>
            </a:r>
            <a:r>
              <a:rPr b="0" lang="ro-RO" sz="2800" spc="-1" strike="noStrike">
                <a:solidFill>
                  <a:srgbClr val="ffff66"/>
                </a:solidFill>
                <a:latin typeface="Tahoma"/>
              </a:rPr>
              <a:t>ţ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i congruente:</a:t>
            </a:r>
            <a:r>
              <a:rPr b="0" lang="en-US" sz="2800" spc="-1" strike="noStrike">
                <a:solidFill>
                  <a:srgbClr val="6699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Tahoma"/>
              </a:rPr>
              <a:t>                                                  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                                                   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428280" y="594360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59280" y="544500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ABCD paralelogram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  AB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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CD si AD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</a:t>
            </a: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BC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480060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85640" y="4869000"/>
            <a:ext cx="3611520" cy="1747800"/>
            <a:chOff x="485640" y="4869000"/>
            <a:chExt cx="3611520" cy="1747800"/>
          </a:xfrm>
        </p:grpSpPr>
        <p:grpSp>
          <p:nvGrpSpPr>
            <p:cNvPr id="268" name=""/>
            <p:cNvGrpSpPr/>
            <p:nvPr/>
          </p:nvGrpSpPr>
          <p:grpSpPr>
            <a:xfrm>
              <a:off x="485640" y="4869000"/>
              <a:ext cx="3611520" cy="1747800"/>
              <a:chOff x="485640" y="4869000"/>
              <a:chExt cx="3611520" cy="1747800"/>
            </a:xfrm>
          </p:grpSpPr>
          <p:sp>
            <p:nvSpPr>
              <p:cNvPr id="269" name=""/>
              <p:cNvSpPr/>
              <p:nvPr/>
            </p:nvSpPr>
            <p:spPr>
              <a:xfrm>
                <a:off x="788760" y="5181480"/>
                <a:ext cx="2895840" cy="1219320"/>
              </a:xfrm>
              <a:prstGeom prst="parallelogram">
                <a:avLst>
                  <a:gd name="adj" fmla="val 59374"/>
                </a:avLst>
              </a:prstGeom>
              <a:solidFill>
                <a:srgbClr val="6699ff"/>
              </a:solidFill>
              <a:ln w="93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5640" y="614052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Arial Black"/>
                  </a:rPr>
                  <a:t>A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922480" y="6248520"/>
                <a:ext cx="22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Arial Black"/>
                  </a:rPr>
                  <a:t>B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608280" y="4876920"/>
                <a:ext cx="48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Arial Black"/>
                  </a:rPr>
                  <a:t>C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322280" y="4869000"/>
                <a:ext cx="22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8f8f8"/>
                    </a:solidFill>
                    <a:latin typeface="Arial Black"/>
                  </a:rPr>
                  <a:t>D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550880" y="5181480"/>
                <a:ext cx="1447920" cy="1219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88760" y="5181120"/>
                <a:ext cx="2895840" cy="1219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627200" y="5410080"/>
                <a:ext cx="14475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2124000" y="54450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8f8f8"/>
                  </a:solidFill>
                  <a:latin typeface="Arial Black"/>
                </a:rPr>
                <a:t>O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ransition spd="slow">
    <p:wheel spokes="8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050920" y="404280"/>
            <a:ext cx="633744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e9bfe9"/>
                </a:solidFill>
                <a:latin typeface="Tahoma"/>
              </a:rPr>
              <a:t>Paralelograme particula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354720" cy="52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8f8f8"/>
                </a:solidFill>
                <a:latin typeface="Tahoma"/>
              </a:rPr>
              <a:t>Def. 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Dreptunghiu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este </a:t>
            </a:r>
            <a:r>
              <a:rPr b="0" lang="ro-RO" sz="2400" spc="-1" strike="noStrike">
                <a:solidFill>
                  <a:srgbClr val="ffff66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aralelogramul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 cu un unghi drept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ffff"/>
                </a:solidFill>
                <a:latin typeface="Tahoma"/>
              </a:rPr>
              <a:t>P1. 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Are diagonalele congruente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8f8f8"/>
                </a:solidFill>
                <a:latin typeface="Tahoma"/>
              </a:rPr>
              <a:t>Def.</a:t>
            </a:r>
            <a:r>
              <a:rPr b="0" lang="ro-RO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Rombul</a:t>
            </a:r>
            <a:r>
              <a:rPr b="1" lang="en-US" sz="2400" spc="-1" strike="noStrike">
                <a:solidFill>
                  <a:srgbClr val="0099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este 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paralelogramul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 cu doua laturi consecutive congruente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ffff"/>
                </a:solidFill>
                <a:latin typeface="Tahoma"/>
              </a:rPr>
              <a:t>P1. 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Are diagonalele perpendiculare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99cc"/>
                </a:solidFill>
                <a:latin typeface="Tahoma"/>
              </a:rPr>
              <a:t>P2. Diagonalele sunt bisectoare ale unghiurile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8f8f8"/>
                </a:solidFill>
                <a:latin typeface="Tahoma"/>
              </a:rPr>
              <a:t>Def. 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Patratul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te 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romb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 cu un unghi drept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u este 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dreptunghiu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u doua laturi consecutive congruente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ffff"/>
                </a:solidFill>
                <a:latin typeface="Tahoma"/>
              </a:rPr>
              <a:t>P1. 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Are diagonalele congruente</a:t>
            </a:r>
            <a:r>
              <a:rPr b="0" lang="ro-RO" sz="2400" spc="-1" strike="noStrike">
                <a:solidFill>
                  <a:srgbClr val="00ffff"/>
                </a:solidFill>
                <a:latin typeface="Tahoma"/>
              </a:rPr>
              <a:t>, perpendiculare şi sunt bisectoare ale unghiurilo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7696080" y="2895480"/>
            <a:ext cx="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772400" y="5486400"/>
            <a:ext cx="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2819520"/>
            <a:ext cx="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2362320"/>
            <a:ext cx="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62720" y="2362320"/>
            <a:ext cx="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516720" y="1052640"/>
            <a:ext cx="2209680" cy="926640"/>
            <a:chOff x="6516720" y="1052640"/>
            <a:chExt cx="2209680" cy="926640"/>
          </a:xfrm>
        </p:grpSpPr>
        <p:sp>
          <p:nvSpPr>
            <p:cNvPr id="286" name=""/>
            <p:cNvSpPr/>
            <p:nvPr/>
          </p:nvSpPr>
          <p:spPr>
            <a:xfrm>
              <a:off x="6516720" y="1052640"/>
              <a:ext cx="2209680" cy="91404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16720" y="1065240"/>
              <a:ext cx="2209680" cy="914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6516720" y="1065240"/>
              <a:ext cx="2160360" cy="840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7165440" y="1525680"/>
              <a:ext cx="75960" cy="228240"/>
            </a:xfrm>
            <a:prstGeom prst="line">
              <a:avLst/>
            </a:prstGeom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8100360" y="1065240"/>
              <a:ext cx="152280" cy="304200"/>
            </a:xfrm>
            <a:prstGeom prst="line">
              <a:avLst/>
            </a:prstGeom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7165800" y="1144440"/>
              <a:ext cx="151920" cy="228240"/>
            </a:xfrm>
            <a:prstGeom prst="line">
              <a:avLst/>
            </a:prstGeom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8070480" y="1484280"/>
              <a:ext cx="152280" cy="304560"/>
            </a:xfrm>
            <a:prstGeom prst="line">
              <a:avLst/>
            </a:prstGeom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7620120" y="3657600"/>
            <a:ext cx="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20120" y="3657600"/>
            <a:ext cx="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20120" y="3505320"/>
            <a:ext cx="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7164360" y="2133720"/>
            <a:ext cx="1600200" cy="2633400"/>
            <a:chOff x="7164360" y="2133720"/>
            <a:chExt cx="1600200" cy="2633400"/>
          </a:xfrm>
        </p:grpSpPr>
        <p:sp>
          <p:nvSpPr>
            <p:cNvPr id="297" name=""/>
            <p:cNvSpPr/>
            <p:nvPr/>
          </p:nvSpPr>
          <p:spPr>
            <a:xfrm>
              <a:off x="7164360" y="2176560"/>
              <a:ext cx="1600200" cy="2590560"/>
            </a:xfrm>
            <a:prstGeom prst="diamond">
              <a:avLst/>
            </a:prstGeom>
            <a:solidFill>
              <a:srgbClr val="6699ff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164360" y="3471840"/>
              <a:ext cx="1600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974000" y="3352680"/>
              <a:ext cx="2286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202600" y="3352680"/>
              <a:ext cx="0" cy="152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7971120" y="2133720"/>
              <a:ext cx="0" cy="2590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821720" y="4038480"/>
              <a:ext cx="304920" cy="0"/>
            </a:xfrm>
            <a:prstGeom prst="line">
              <a:avLst/>
            </a:prstGeom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21720" y="4114800"/>
              <a:ext cx="304920" cy="0"/>
            </a:xfrm>
            <a:prstGeom prst="line">
              <a:avLst/>
            </a:prstGeom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874280" y="2781360"/>
              <a:ext cx="228600" cy="0"/>
            </a:xfrm>
            <a:prstGeom prst="line">
              <a:avLst/>
            </a:prstGeom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850160" y="2854440"/>
              <a:ext cx="228600" cy="0"/>
            </a:xfrm>
            <a:prstGeom prst="line">
              <a:avLst/>
            </a:prstGeom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586640" y="3319560"/>
              <a:ext cx="0" cy="304560"/>
            </a:xfrm>
            <a:prstGeom prst="line">
              <a:avLst/>
            </a:prstGeom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383680" y="3319560"/>
              <a:ext cx="0" cy="228600"/>
            </a:xfrm>
            <a:prstGeom prst="line">
              <a:avLst/>
            </a:prstGeom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7020000" y="4869000"/>
            <a:ext cx="1600200" cy="1371600"/>
            <a:chOff x="7020000" y="4869000"/>
            <a:chExt cx="1600200" cy="1371600"/>
          </a:xfrm>
        </p:grpSpPr>
        <p:sp>
          <p:nvSpPr>
            <p:cNvPr id="309" name=""/>
            <p:cNvSpPr/>
            <p:nvPr/>
          </p:nvSpPr>
          <p:spPr>
            <a:xfrm>
              <a:off x="7020000" y="4869000"/>
              <a:ext cx="1600200" cy="13716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20000" y="4869000"/>
              <a:ext cx="1600200" cy="137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7020000" y="4869000"/>
              <a:ext cx="1600200" cy="137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705800" y="5631120"/>
              <a:ext cx="152280" cy="152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7858080" y="5630760"/>
              <a:ext cx="152280" cy="152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7400520" y="5173920"/>
              <a:ext cx="152280" cy="152280"/>
            </a:xfrm>
            <a:prstGeom prst="line">
              <a:avLst/>
            </a:prstGeom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086680" y="5173920"/>
              <a:ext cx="152280" cy="152280"/>
            </a:xfrm>
            <a:prstGeom prst="line">
              <a:avLst/>
            </a:prstGeom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400880" y="5707440"/>
              <a:ext cx="152280" cy="228600"/>
            </a:xfrm>
            <a:prstGeom prst="line">
              <a:avLst/>
            </a:prstGeom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8010360" y="5707080"/>
              <a:ext cx="228600" cy="228600"/>
            </a:xfrm>
            <a:prstGeom prst="line">
              <a:avLst/>
            </a:prstGeom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ransition spd="slow">
    <p:newsflash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6400"/>
                            </p:stCondLst>
                            <p:childTnLst>
                              <p:par>
                                <p:cTn id="1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7400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8400"/>
                            </p:stCondLst>
                            <p:childTnLst>
                              <p:par>
                                <p:cTn id="1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-9147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914400" y="1143000"/>
            <a:ext cx="7086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6699ff"/>
                  </a:solidFill>
                  <a:miter/>
                </a:ln>
                <a:solidFill>
                  <a:srgbClr val="6699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RAPEZUL</a:t>
            </a:r>
            <a:endParaRPr b="0" lang="en-US" sz="2400" spc="1" strike="noStrike">
              <a:ln w="12600">
                <a:solidFill>
                  <a:srgbClr val="6699ff"/>
                </a:solidFill>
                <a:miter/>
              </a:ln>
              <a:solidFill>
                <a:srgbClr val="6699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0" name=""/>
          <p:cNvSpPr/>
          <p:nvPr/>
        </p:nvSpPr>
        <p:spPr>
          <a:xfrm rot="10800000">
            <a:off x="2286000" y="3885840"/>
            <a:ext cx="3276720" cy="1143000"/>
          </a:xfrm>
          <a:custGeom>
            <a:avLst/>
            <a:gdLst>
              <a:gd name="textAreaLeft" fmla="*/ 720360 w 3276720"/>
              <a:gd name="textAreaRight" fmla="*/ 2556360 w 3276720"/>
              <a:gd name="textAreaTop" fmla="*/ 251280 h 1143000"/>
              <a:gd name="textAreaBottom" fmla="*/ 891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slow" advTm="0">
    <p:checker dir="horz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8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5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1T11:51:08Z</dcterms:created>
  <dc:creator>CATA</dc:creator>
  <dc:description/>
  <dc:language>en-US</dc:language>
  <cp:lastModifiedBy>maria</cp:lastModifiedBy>
  <dcterms:modified xsi:type="dcterms:W3CDTF">2011-01-04T14:25:45Z</dcterms:modified>
  <cp:revision>98</cp:revision>
  <dc:subject/>
  <dc:title>No Slide Title</dc:title>
</cp:coreProperties>
</file>